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4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2825" cy="6858000"/>
  <p:notesSz cx="96234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E16-7ECA-4A98-887B-F8D6DEA6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9CF-F9BA-413A-A3B6-5C5CA2D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5FD-EE61-44CA-A8CD-A0D7B37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C29-A32C-4EA9-B5B1-A9C35299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089-C27C-4DF2-BCD1-BA74B07B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CF5-2C79-4E5B-9BAF-D57F43C4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498-1809-4EA5-976F-AD19BC7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A55-266A-42DE-A4A4-6ACB54A8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AB3-81CC-4838-B261-B8D1957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E0D-C9FA-4DB8-A1DC-B336DD9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30F-BBB4-4933-9ECA-554D902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A14-2A85-4AE7-BD2F-027E6508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53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05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4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0656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5F95D21E-677A-473F-8335-D1FD564F9A2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prqa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504960" cy="302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4219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br>
              <a:rPr sz="41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ventario Emissioni AR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560" y="1219320"/>
            <a:ext cx="6932520" cy="2286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gione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zione Generale Qualità dell’Ambien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efano Caser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elo Giudici, Marco Moretti, Anna Fraccaroli, Anna Monguzzi, Rosanna Roveda, Paola Bardinella, Andrea Cemin, Silvia Mor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4 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rovinciali%20A3" descr=""/>
          <p:cNvPicPr/>
          <p:nvPr/>
        </p:nvPicPr>
        <p:blipFill>
          <a:blip r:embed="rId2"/>
          <a:stretch/>
        </p:blipFill>
        <p:spPr>
          <a:xfrm>
            <a:off x="1371600" y="1461960"/>
            <a:ext cx="7315200" cy="5329440"/>
          </a:xfrm>
          <a:prstGeom prst="rect">
            <a:avLst/>
          </a:prstGeom>
          <a:ln w="0">
            <a:noFill/>
          </a:ln>
        </p:spPr>
      </p:pic>
      <p:pic>
        <p:nvPicPr>
          <p:cNvPr id="94" name="logoprqa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STRADALE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atali%20A3" descr=""/>
          <p:cNvPicPr/>
          <p:nvPr/>
        </p:nvPicPr>
        <p:blipFill>
          <a:blip r:embed="rId2"/>
          <a:stretch/>
        </p:blipFill>
        <p:spPr>
          <a:xfrm>
            <a:off x="1219320" y="1509840"/>
            <a:ext cx="7619760" cy="5111640"/>
          </a:xfrm>
          <a:prstGeom prst="rect">
            <a:avLst/>
          </a:prstGeom>
          <a:ln w="0">
            <a:noFill/>
          </a:ln>
        </p:spPr>
      </p:pic>
      <p:pic>
        <p:nvPicPr>
          <p:cNvPr id="97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3328920" cy="11606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04920"/>
            <a:ext cx="4290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0440" y="1793880"/>
            <a:ext cx="6162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pert II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(FE e metodologia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800" y="3639960"/>
            <a:ext cx="4840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mission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11520" y="5591160"/>
            <a:ext cx="4840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it-IT" sz="4100" spc="-1" strike="noStrike">
                <a:solidFill>
                  <a:srgbClr val="000000"/>
                </a:solidFill>
                <a:latin typeface="Times New Roman"/>
              </a:rPr>
              <a:t>Fuel balance</a:t>
            </a:r>
            <a:r>
              <a:rPr b="0" lang="it-IT" sz="41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495680"/>
            <a:ext cx="6712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Consumi di carburan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004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1629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3124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066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prqa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80400" cy="4903920"/>
          </a:xfrm>
          <a:prstGeom prst="rect">
            <a:avLst/>
          </a:prstGeom>
          <a:ln w="0">
            <a:noFill/>
          </a:ln>
        </p:spPr>
      </p:pic>
      <p:pic>
        <p:nvPicPr>
          <p:cNvPr id="112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ULTATI INEMAR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i provvisori)</a:t>
            </a: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umi di GAS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805520" cy="4857840"/>
          </a:xfrm>
          <a:prstGeom prst="rect">
            <a:avLst/>
          </a:prstGeom>
          <a:ln w="0">
            <a:noFill/>
          </a:ln>
        </p:spPr>
      </p:pic>
      <p:pic>
        <p:nvPicPr>
          <p:cNvPr id="115" name="logoprqa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BENZINA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8416800" cy="3585960"/>
          </a:xfrm>
          <a:prstGeom prst="rect">
            <a:avLst/>
          </a:prstGeom>
          <a:ln w="0">
            <a:noFill/>
          </a:ln>
        </p:spPr>
      </p:pic>
      <p:pic>
        <p:nvPicPr>
          <p:cNvPr id="118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te GASOLIO da Bollettino Petrolif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705880" cy="3709800"/>
          </a:xfrm>
          <a:prstGeom prst="rect">
            <a:avLst/>
          </a:prstGeom>
          <a:ln w="0">
            <a:noFill/>
          </a:ln>
        </p:spPr>
      </p:pic>
      <p:pic>
        <p:nvPicPr>
          <p:cNvPr id="121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17160" cy="14479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PPORTO 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UMI Totali INEMAR * / VENDITE Bollet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prqa" descr=""/>
          <p:cNvPicPr/>
          <p:nvPr/>
        </p:nvPicPr>
        <p:blipFill>
          <a:blip r:embed="rId2"/>
          <a:stretch/>
        </p:blipFill>
        <p:spPr>
          <a:xfrm>
            <a:off x="8381880" y="380880"/>
            <a:ext cx="1187640" cy="69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95280" y="1371600"/>
            <a:ext cx="7467840" cy="493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1240" y="63234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16800" cy="6094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1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ZA (VENDITE-CONSUMI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8305920" cy="5168880"/>
          </a:xfrm>
          <a:prstGeom prst="rect">
            <a:avLst/>
          </a:prstGeom>
          <a:ln w="0">
            <a:noFill/>
          </a:ln>
        </p:spPr>
      </p:pic>
      <p:pic>
        <p:nvPicPr>
          <p:cNvPr id="128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7760" y="1981080"/>
            <a:ext cx="413208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76212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329076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5730840" cy="3567240"/>
          </a:xfrm>
          <a:prstGeom prst="rect">
            <a:avLst/>
          </a:prstGeom>
          <a:ln w="0">
            <a:noFill/>
          </a:ln>
        </p:spPr>
      </p:pic>
      <p:pic>
        <p:nvPicPr>
          <p:cNvPr id="135" name="logoprqa" descr=""/>
          <p:cNvPicPr/>
          <p:nvPr/>
        </p:nvPicPr>
        <p:blipFill>
          <a:blip r:embed="rId4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3800" y="636156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280"/>
            <a:ext cx="7508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todologia inventario emissioni INEM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427120"/>
            <a:ext cx="352116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=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Q = Emissione annua inquinante per ogni  inquinante e attività secondo la classificazione europea SNAP 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2520"/>
            <a:ext cx="18144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iff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762120"/>
            <a:ext cx="16509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icatori di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agini presso  circa 70 diversi enti, aziende e societ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6320" y="762120"/>
            <a:ext cx="1566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ttori di emissione (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Corin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ati specifici   R.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3048120"/>
            <a:ext cx="255744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missioni da fores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metodologia di dettaglio Corinair (per ogni tipo di essenza a livello comu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0200" y="4724280"/>
            <a:ext cx="2392560" cy="13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Times New Roman"/>
              </a:rPr>
              <a:t>Emissioni da traffico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metodologia di dettaglio Copert II; possibilità di variazione percorrenze, veicoli e fattori di emis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66cc"/>
                </a:solidFill>
                <a:latin typeface="Times New Roman"/>
              </a:rPr>
              <a:t>(es. Cope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5320" y="1371600"/>
            <a:ext cx="2639880" cy="9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da riscald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ima fabbisogni energetici comunali da dati ISTAT 1991 per tipo di abi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0720" y="914400"/>
            <a:ext cx="2806920" cy="1257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issioni puntu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simento di circa 300 impianti (centrali, cementifici, inceneritori, discariche, raffinerie, altri impianti industri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029200"/>
            <a:ext cx="457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Inem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Emissioni Totali a livello ‘comunale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isualizzazione tramite GIS Nebula L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2373480"/>
            <a:ext cx="3603600" cy="20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9600" y="1846440"/>
            <a:ext cx="2206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20640" y="1952640"/>
            <a:ext cx="8244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5240" y="4419720"/>
            <a:ext cx="330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25960" y="2590920"/>
            <a:ext cx="990720" cy="21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76920"/>
            <a:ext cx="4647960" cy="1752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43160" y="2514600"/>
            <a:ext cx="495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51280" y="2584440"/>
            <a:ext cx="310824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81560" y="3733920"/>
            <a:ext cx="173376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805120" y="2057400"/>
            <a:ext cx="10731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9480" y="3324240"/>
            <a:ext cx="231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ariabili proxy per la ripartizione su base comu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00440" y="495288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prq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6386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SOLI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ordin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86040" y="243828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te autostrad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95680" y="3270240"/>
            <a:ext cx="5765760" cy="358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5730840" cy="3565800"/>
          </a:xfrm>
          <a:prstGeom prst="rect">
            <a:avLst/>
          </a:prstGeom>
          <a:ln w="0">
            <a:noFill/>
          </a:ln>
        </p:spPr>
      </p:pic>
      <p:pic>
        <p:nvPicPr>
          <p:cNvPr id="142" name="logoprqa" descr=""/>
          <p:cNvPicPr/>
          <p:nvPr/>
        </p:nvPicPr>
        <p:blipFill>
          <a:blip r:embed="rId4"/>
          <a:stretch/>
        </p:blipFill>
        <p:spPr>
          <a:xfrm>
            <a:off x="8229600" y="45720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9720" y="632340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: dati INEMAR provvi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280" y="652320"/>
            <a:ext cx="88066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dati delle VENDITE di carburanti fornite dal Bollettino Petroli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752480"/>
            <a:ext cx="836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umi da traffico pesante di scorrimento e ruolo            pendolarismo (distributore di prefere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to di extrare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omogeneità sul territorio dei distributori e influenza della razionalizzazione dei punti di ve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logoprqa" descr=""/>
          <p:cNvPicPr/>
          <p:nvPr/>
        </p:nvPicPr>
        <p:blipFill>
          <a:blip r:embed="rId2"/>
          <a:stretch/>
        </p:blipFill>
        <p:spPr>
          <a:xfrm>
            <a:off x="8305920" y="380880"/>
            <a:ext cx="1187280" cy="6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49320"/>
            <a:ext cx="968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0" y="652320"/>
            <a:ext cx="7134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ERTEZZE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 CONSUMI e nelle EMISSIONI stimate da INE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09680"/>
            <a:ext cx="83631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nze nei dati dei flussi di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del modello TR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velocità di per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curve di distribuzione temp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rtezza nelle percorrenze urbane (classi di comu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tà nel PRQA dei dati d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I ‘COMUNALI’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416800" cy="4572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le 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e criti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zione del ruolo di nuovi impianti nell’ambito delle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o alla modellistica degli inquinanti tradizionali e dell’ozono (modelli fotochimi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e 21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70040" y="1635120"/>
            <a:ext cx="84722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4100"/>
            </a:br>
            <a:br>
              <a:rPr sz="4100"/>
            </a:br>
            <a:r>
              <a:rPr b="1" lang="it-IT" sz="41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br>
              <a:rPr sz="4100"/>
            </a:br>
            <a:br>
              <a:rPr sz="41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allo scaric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missioni evap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4876560"/>
            <a:ext cx="4132080" cy="14475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dif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1120" y="4876920"/>
            <a:ext cx="4132440" cy="13716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 algn="ctr">
              <a:spcBef>
                <a:spcPts val="700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ffico 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ctr">
              <a:spcBef>
                <a:spcPts val="649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358128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prq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EMA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i da traf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902880" cy="5311800"/>
          </a:xfrm>
          <a:prstGeom prst="rect">
            <a:avLst/>
          </a:prstGeom>
          <a:ln w="0">
            <a:noFill/>
          </a:ln>
        </p:spPr>
      </p:pic>
      <p:pic>
        <p:nvPicPr>
          <p:cNvPr id="79" name="logoprqa" descr=""/>
          <p:cNvPicPr/>
          <p:nvPr/>
        </p:nvPicPr>
        <p:blipFill>
          <a:blip r:embed="rId3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096040" cy="5335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PUT Traffico diffuso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rraria s.r.l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7520" indent="0">
              <a:spcBef>
                <a:spcPts val="601"/>
              </a:spcBef>
              <a:buNone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colta e analisi di 40 Piani Urbani del Traf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zione d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8 PUT di rifer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appresentanti più del 26% della popolazione da cui tratte informazioni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loc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relativa distribuzione temporale (ora/tipo giorno/mes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lla base dell’indicato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olazi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fini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 classi di Comun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 cui ipotizzate analoghe percorrenze e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prqa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11872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1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o di assegnazione del traffico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I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del modello di assegnazione derivanti dall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di tutti i dati di traffico disponibili per la Regione Lombardia nel periodo 1993 -199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ilevamenti sistematici e occasionali su strade statali e provinciali,  rilevamenti e matrici O/D sulla rete autostradale, indagini ATM di Milano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prqa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1187280" cy="69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60400" y="210960"/>
            <a:ext cx="616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PUT Traffico lineare /2</a:t>
            </a:r>
            <a:br>
              <a:rPr sz="36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ystematica s.r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 fontScale="91000"/>
          </a:bodyPr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tteristiche topografiche e di traffico di circ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 arc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ddivisi t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autostrade (autostrade, tangenziali, superst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0">
              <a:spcBef>
                <a:spcPts val="601"/>
              </a:spcBef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de extraurbane (provinciali, statal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 veicoli (transiti) suddivisi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ategorie di vei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SNAP Sectors (auto passeggeri, veicoli leggeri &lt; 3.5 t, veicoli pesanti &gt; 3.5 t e bus, motocicli &gt; 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cia oraria di punta (7.00-9.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i di distribuzione temporale (4 fasce orarie / 3 giorni tipo / 4 stagion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720" indent="-28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di deflusso (frazioni velocità e capacità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prqa" descr=""/>
          <p:cNvPicPr/>
          <p:nvPr/>
        </p:nvPicPr>
        <p:blipFill>
          <a:blip r:embed="rId2"/>
          <a:stretch/>
        </p:blipFill>
        <p:spPr>
          <a:xfrm>
            <a:off x="8381880" y="30492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416800" cy="12193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o lineare /3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E STRADALE PRINCIPA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strade, superstrade, tang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utostrade%20A3" descr=""/>
          <p:cNvPicPr/>
          <p:nvPr/>
        </p:nvPicPr>
        <p:blipFill>
          <a:blip r:embed="rId2"/>
          <a:stretch/>
        </p:blipFill>
        <p:spPr>
          <a:xfrm>
            <a:off x="1143000" y="1650960"/>
            <a:ext cx="7696080" cy="4994280"/>
          </a:xfrm>
          <a:prstGeom prst="rect">
            <a:avLst/>
          </a:prstGeom>
          <a:ln w="0">
            <a:noFill/>
          </a:ln>
        </p:spPr>
      </p:pic>
      <p:pic>
        <p:nvPicPr>
          <p:cNvPr id="91" name="logoprqa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1187640" cy="69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15:28Z</dcterms:created>
  <dc:creator>brambilla</dc:creator>
  <dc:description/>
  <dc:language>en-US</dc:language>
  <cp:lastModifiedBy>Silvia</cp:lastModifiedBy>
  <cp:lastPrinted>2000-11-08T11:11:20Z</cp:lastPrinted>
  <dcterms:modified xsi:type="dcterms:W3CDTF">2000-11-10T11:32:09Z</dcterms:modified>
  <cp:revision>257</cp:revision>
  <dc:subject/>
  <dc:title>Nessun titolo diapositiva</dc:title>
</cp:coreProperties>
</file>